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534A-E96D-4CCB-8B26-56930678D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FDFC9-3411-479D-B250-9A429E58A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13753-C2C1-422F-A7A3-B6240A55E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A9F09-457B-4413-B2FF-A736FD0642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C9EE7-5E8C-45EE-9517-BABB579283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B5F45-B11C-4491-886F-1346B2683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EBEDF-7FD7-4E57-8EE4-DC226AAFC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64EE6-C0B2-4E65-9DAA-F81C03D83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EEA67-C8E0-4DCC-A1FE-37FB0AB9B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C493E-5CEA-4E72-9B22-26C9409D1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1021A-E512-459A-90C5-613736143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1BB93-138D-43C9-A4B2-F7B940BF4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1d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venance and Context Workshop Introduction- R. Duer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IP Federation Meeting, Santa Barbara, July 200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5960" y="6457680"/>
            <a:ext cx="10666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A873-0960-4F56-9098-299A77330D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010280" y="6324480"/>
            <a:ext cx="20019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666880"/>
            <a:ext cx="9144000" cy="228600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664080" cy="711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320" y="2773440"/>
            <a:ext cx="2835000" cy="210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4080" y="31237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rovenance &amp; Context Workshop - Introduction</a:t>
            </a:r>
            <a:endParaRPr b="1" i="1" lang="en-US" sz="3600" spc="-1" strike="noStrike">
              <a:solidFill>
                <a:srgbClr val="b1db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876920" y="609480"/>
            <a:ext cx="312408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Overview of Events: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ssion 1 (Wednesday afterno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 - R. Duerr (5 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mary from Winter meeting - Rob Raskin  (15 mi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 of guiding documents (OAIS, PREMIS, USGCRP) - R. Duerr (30 mi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enance and Context Research (45 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im Fr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uce Barkst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. Duer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 (25 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 we kn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miss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plan for 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Overview of Events (continued)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ssion 2 (Thursday, 2 pm) - 1 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 prior days plans.  New ideas? Modifica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ize report out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ak into writing t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ssion 3 (Thursday, 3:30 pm) - 2 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breakouts (1 hou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nvene and determine plan for finalizing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Draft Document Outline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of the state of the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ons learned (use real examples wherever poss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past experi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other discip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cy policies and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ps (difference between the ideal and rea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Things to think about as you attend other session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ata stewardship lessons can be learn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sues should be brought forward at the provenance worksh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5:28:48Z</dcterms:created>
  <dc:creator>Ruth Duerr</dc:creator>
  <dc:description/>
  <dc:language>en-US</dc:language>
  <cp:lastModifiedBy>Ruth Duerr</cp:lastModifiedBy>
  <cp:lastPrinted>2002-10-01T17:30:54Z</cp:lastPrinted>
  <dcterms:modified xsi:type="dcterms:W3CDTF">2009-07-08T04:34:40Z</dcterms:modified>
  <cp:revision>4</cp:revision>
  <dc:subject/>
  <dc:title>Preservation &amp; Stewardship</dc:title>
</cp:coreProperties>
</file>